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13A7-0E59-4D6E-B87A-C6F6D1F80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113A-656D-465F-8A22-18F87FAAA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6EEA-0F1A-4A72-8029-6D646D1AA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FAA5-B083-49AC-906E-B57492E5E9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C144-EE8B-481D-97B4-B49129DED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2EBD-3690-4E3C-92D0-F9B89FB7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AF7-8A38-4F9D-B630-3070D4BB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0A5D-6D79-4025-B0FF-99EACBF7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1700-3554-4E6C-9D63-45B42782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0BFC-A84E-49C8-A632-9B0C6CB6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063E-A569-404D-B54D-13F8BFCB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289E-0A98-462B-81F0-64D31FE4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0497-3950-450A-A79D-AC02485D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0B9-F52D-4E0A-9CA4-E1424D14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06F0-8DE8-43A8-906C-C533C2CC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9048-1E0A-4FCD-850A-A9B0B219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A74F-6EC3-494D-BE1A-B6276778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5249-7898-4EAF-B7AF-D1E5BC9AC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lc.brooklyn.cuny.edu/smarttutor/core3_22/images/Atom_structure_new.gif&amp;imgrefurl=http://lc.brooklyn.cuny.edu/smarttutor/core3_22/atomex.html&amp;h=432&amp;w=432&amp;sz=50&amp;hl=en&amp;start=1&amp;usg=__E-2NDaK3gIIzhJXKG3a9UU9aUok=&amp;tbnid=nyqQMh6jKJQ4LM:&amp;tbnh=126&amp;tbnw=126&amp;prev=/images%3Fq%3Datoms%26gbv%3D2%26hl%3Den%26safe%3Dactive%26sa%3D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fi.edu/learn/heart/blood/images/large_white-cells.jpg&amp;imgrefurl=http://www.fi.edu/learn/heart/blood/white.html&amp;h=479&amp;w=600&amp;sz=87&amp;hl=en&amp;start=30&amp;usg=__dteeb_Zzk9t7MnIl_u2n2ipBX3Q=&amp;tbnid=jG22bvN1TReFYM:&amp;tbnh=108&amp;tbnw=135&amp;prev=/images%3Fq%3Dcells%26start%3D20%26gbv%3D2%26ndsp%3D20%26hl%3Den%26safe%3Dactive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ngm.nationalgeographic.com/2007/02/hearts/hearts-photography.htm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i-can-drink-milk-again.com/images/Human-Digestive-System-Picture.jpg&amp;imgrefurl=http://www.i-can-drink-milk-again.com/brochure/Digestive-System-Picture.html&amp;h=456&amp;w=271&amp;sz=25&amp;hl=en&amp;start=10&amp;usg=__PTYPNxPWoXIPdXDzrThoqZjOQDA=&amp;tbnid=-n39jJ78PYmlhM:&amp;tbnh=128&amp;tbnw=76&amp;prev=/images%3Fq%3Ddigestive%2Bsystem%26gbv%3D2%26hl%3Den%26safe%3Dactive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ss-tours.com/images/butterfly-2.jpg&amp;imgrefurl=http://www.ss-tours.com/guad_mich.html&amp;h=339&amp;w=228&amp;sz=30&amp;hl=en&amp;start=11&amp;usg=__c9Fzp1AghInqiW4KXW01-qFyELM=&amp;tbnid=wg9m14HiUUB1eM:&amp;tbnh=119&amp;tbnw=80&amp;prev=/images%3Fq%3Dpopulations%2Bbutterfly%26gbv%3D2%26hl%3Den%26safe%3Dactive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images.google.com/imgres?imgurl=http://www.tooprecioustowear.org/_img/products/ecoSphere.jpg&amp;imgrefurl=http://www.tooprecioustowear.org/_partners/ecofriendly3.html&amp;h=300&amp;w=360&amp;sz=35&amp;hl=en&amp;start=6&amp;usg=__AgYlBoczkZA6_Uf7fJc2FznHB9s=&amp;tbnid=61i1YP68Wcf4QM:&amp;tbnh=101&amp;tbnw=121&amp;prev=/images%3Fq%3Decosphere%26gbv%3D2%26hl%3Den%26safe%3Dactive" TargetMode="External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 rot="20637000">
            <a:off x="-96840" y="246960"/>
            <a:ext cx="3657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Ecology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 rot="379200">
            <a:off x="1739520" y="1263600"/>
            <a:ext cx="733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study of how organisms interact with one another and with the abiotic components in an area (ecosystem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www.kidsgeo.com/images/ecosystem.jpg"/>
          <p:cNvPicPr/>
          <p:nvPr/>
        </p:nvPicPr>
        <p:blipFill>
          <a:blip r:embed="rId1"/>
          <a:stretch/>
        </p:blipFill>
        <p:spPr>
          <a:xfrm>
            <a:off x="457200" y="3200400"/>
            <a:ext cx="4952880" cy="3317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8"/>
          <p:cNvSpPr/>
          <p:nvPr/>
        </p:nvSpPr>
        <p:spPr>
          <a:xfrm>
            <a:off x="5410080" y="41911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osystem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ommun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different organisms interact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s of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6" descr="Atom_structure_ne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9625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large_white-cell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5486400"/>
            <a:ext cx="1285920" cy="102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ear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38862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1522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533520" y="5867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371600" y="5410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828800" y="4952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362320" y="44956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2971800" y="41148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3352680" y="36576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3886200" y="3276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4419720" y="2895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5029200" y="2438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5486400" y="20574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6248520" y="1523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2" descr="Human-Digestive-System-Pictur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014560" y="2362320"/>
            <a:ext cx="995400" cy="1676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5" descr="butterfly-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57600" y="1523880"/>
            <a:ext cx="966960" cy="1438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7" descr="ecoSpher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238880" y="1981080"/>
            <a:ext cx="1152720" cy="962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9" descr="earth-light"/>
          <p:cNvPicPr/>
          <p:nvPr/>
        </p:nvPicPr>
        <p:blipFill>
          <a:blip r:embed="rId13"/>
          <a:stretch/>
        </p:blipFill>
        <p:spPr>
          <a:xfrm>
            <a:off x="7391520" y="457200"/>
            <a:ext cx="1133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www.saltmarshlife.com/image/Saltmarsh%20ecotone%202903-70.jpg"/>
          <p:cNvPicPr/>
          <p:nvPr/>
        </p:nvPicPr>
        <p:blipFill>
          <a:blip r:embed="rId1"/>
          <a:stretch/>
        </p:blipFill>
        <p:spPr>
          <a:xfrm>
            <a:off x="4419720" y="685800"/>
            <a:ext cx="4576680" cy="3048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www.fs.fed.us/pnw/olympia/silv/local-resources/glossary/images/ecotone.jpg"/>
          <p:cNvPicPr/>
          <p:nvPr/>
        </p:nvPicPr>
        <p:blipFill>
          <a:blip r:embed="rId2"/>
          <a:stretch/>
        </p:blipFill>
        <p:spPr>
          <a:xfrm>
            <a:off x="228600" y="3884760"/>
            <a:ext cx="3733920" cy="27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filebox.vt.edu/users/amrosenb/Images/ecotone.jpg"/>
          <p:cNvPicPr/>
          <p:nvPr/>
        </p:nvPicPr>
        <p:blipFill>
          <a:blip r:embed="rId3"/>
          <a:stretch/>
        </p:blipFill>
        <p:spPr>
          <a:xfrm>
            <a:off x="228600" y="609480"/>
            <a:ext cx="3809880" cy="2571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Desert - Mountain Ecotone"/>
          <p:cNvPicPr/>
          <p:nvPr/>
        </p:nvPicPr>
        <p:blipFill>
          <a:blip r:embed="rId4"/>
          <a:stretch/>
        </p:blipFill>
        <p:spPr>
          <a:xfrm>
            <a:off x="4724280" y="3962520"/>
            <a:ext cx="3162600" cy="2519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9"/>
          <p:cNvSpPr/>
          <p:nvPr/>
        </p:nvSpPr>
        <p:spPr>
          <a:xfrm rot="20168400">
            <a:off x="913680" y="28954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ok at all these ecosytems and ecoton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jor Components of Freshwater Ecosy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51176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9" name="Text Box 4"/>
          <p:cNvSpPr/>
          <p:nvPr/>
        </p:nvSpPr>
        <p:spPr>
          <a:xfrm>
            <a:off x="1983960" y="2880360"/>
            <a:ext cx="235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ers (rooted pla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040560" y="3254760"/>
            <a:ext cx="245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ers (phytoplankt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016080" y="3545280"/>
            <a:ext cx="30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ry consumers (zooplankt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428360" y="38343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ary consumers (fi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3582000" y="5104080"/>
            <a:ext cx="10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sol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019560" y="4113720"/>
            <a:ext cx="183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tiary consu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urt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4496400" y="5561640"/>
            <a:ext cx="982440" cy="3070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d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4280760" y="5970960"/>
            <a:ext cx="3061080" cy="3070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omposers (bacteria and fung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09560" y="1539720"/>
            <a:ext cx="7805880" cy="4764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8" name="Text Box 3"/>
          <p:cNvSpPr/>
          <p:nvPr/>
        </p:nvSpPr>
        <p:spPr>
          <a:xfrm>
            <a:off x="6668280" y="20037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939760" y="281664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38000" y="462024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965240" y="4449960"/>
            <a:ext cx="135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lling lea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twi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572640" y="428976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4341240" y="3751560"/>
            <a:ext cx="174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ry consu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ab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997960" y="3408840"/>
            <a:ext cx="199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ary consu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fo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5607000" y="3097440"/>
            <a:ext cx="1990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bon dioxide (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5448960" y="2014920"/>
            <a:ext cx="119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xygen (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1951920" y="577584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5867640" y="5001120"/>
            <a:ext cx="17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il decompo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3429360" y="5790600"/>
            <a:ext cx="1409040" cy="2156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luble mineral nutri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7385400" y="647064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. 3-10, p. 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jor Components of a Field Eco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7840" y="685800"/>
            <a:ext cx="8661240" cy="58294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7848720" y="472356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sh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781680" y="4647600"/>
            <a:ext cx="119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pow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 flipH="1">
            <a:off x="4876920" y="3675240"/>
            <a:ext cx="1247760" cy="1430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 flipH="1">
            <a:off x="4038480" y="3105000"/>
            <a:ext cx="914400" cy="192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 flipH="1">
            <a:off x="3352680" y="2852640"/>
            <a:ext cx="47808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2597040" y="2749680"/>
            <a:ext cx="222480" cy="2127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1324080" y="2746440"/>
            <a:ext cx="352440" cy="1825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84840" y="3351960"/>
            <a:ext cx="111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ng-ho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etle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1675440" y="3199680"/>
            <a:ext cx="10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rk bee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ra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819520" y="3047400"/>
            <a:ext cx="90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p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3810600" y="2971080"/>
            <a:ext cx="104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it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p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4879080" y="3580560"/>
            <a:ext cx="123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y rot fu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 flipH="1">
            <a:off x="380520" y="1052640"/>
            <a:ext cx="2527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928600" y="913680"/>
            <a:ext cx="13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ritus fee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4291920" y="105264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8"/>
          <p:cNvSpPr/>
          <p:nvPr/>
        </p:nvSpPr>
        <p:spPr>
          <a:xfrm flipV="1">
            <a:off x="5905440" y="8380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 flipH="1">
            <a:off x="5918040" y="1052640"/>
            <a:ext cx="81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6757560" y="9136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7975440" y="1052640"/>
            <a:ext cx="81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475560" y="5768280"/>
            <a:ext cx="14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pro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3"/>
          <p:cNvSpPr/>
          <p:nvPr/>
        </p:nvSpPr>
        <p:spPr>
          <a:xfrm>
            <a:off x="1943280" y="5791320"/>
            <a:ext cx="952200" cy="230040"/>
          </a:xfrm>
          <a:prstGeom prst="rightArrow">
            <a:avLst>
              <a:gd name="adj1" fmla="val 50000"/>
              <a:gd name="adj2" fmla="val 103482"/>
            </a:avLst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5714640" y="5791320"/>
            <a:ext cx="2981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wder broken down by decomp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o plant nutrients in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5"/>
          <p:cNvSpPr/>
          <p:nvPr/>
        </p:nvSpPr>
        <p:spPr>
          <a:xfrm>
            <a:off x="7366320" y="648648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. 3-12, p. 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tritiv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143000" y="1393920"/>
            <a:ext cx="6248520" cy="54640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7385400" y="648648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. 3-13, p.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229760" y="4357800"/>
            <a:ext cx="163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ompo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a, fung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6451920" y="2270880"/>
            <a:ext cx="68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5694120" y="21398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512720" y="23194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607760" y="62326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5838480" y="61754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3816000" y="353520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3050280" y="1974600"/>
            <a:ext cx="1805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biotic chemic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carbon dioxide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xygen, nitrogen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ineral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3258000" y="5806080"/>
            <a:ext cx="134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herbivor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nivor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5336640" y="4309920"/>
            <a:ext cx="118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la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in Structural Components of an Eco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7385400" y="648504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. 3-14, p.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0314"/>
          <p:cNvPicPr/>
          <p:nvPr/>
        </p:nvPicPr>
        <p:blipFill>
          <a:blip r:embed="rId1"/>
          <a:stretch/>
        </p:blipFill>
        <p:spPr>
          <a:xfrm>
            <a:off x="771480" y="1295280"/>
            <a:ext cx="7607520" cy="502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2:00:50Z</dcterms:created>
  <dc:creator> </dc:creator>
  <dc:description/>
  <dc:language>en-US</dc:language>
  <cp:lastModifiedBy>MVanElli</cp:lastModifiedBy>
  <dcterms:modified xsi:type="dcterms:W3CDTF">2011-06-06T14:24:55Z</dcterms:modified>
  <cp:revision>12</cp:revision>
  <dc:subject/>
  <dc:title>Ecology</dc:title>
</cp:coreProperties>
</file>